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E784-0F55-488C-A0F8-C459405D3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96A6-6528-4858-A8EA-0DA1B2FB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AFBC-A2B7-4C90-9F66-2144646AC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09C4-08FA-4831-8ED0-17BC85DC8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E4EC-95B7-4641-BD74-910C2F87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FDCE-0FCA-4CE8-9515-177F9756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EFA4-FDA6-4E68-B21B-A246E716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71A1-4A9A-4D3B-A55E-C0F07417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A826-1E14-430B-A3E8-7C282E86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C9A3-2D42-4E2E-A8E6-CC34FD98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1D7B-0D6B-478C-8826-46B70E1F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E36D-CE87-4C16-8406-D848DA30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C48E-FAAB-4D28-AD66-8E665DFAD42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5904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8218440" cy="604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6699"/>
                </a:solidFill>
                <a:latin typeface="Arial"/>
              </a:rPr>
              <a:t>الأصدقاء جواهر نادرة</a:t>
            </a:r>
            <a:r>
              <a:rPr b="0" lang="ar-EG" sz="4400" spc="-1" strike="noStrike">
                <a:solidFill>
                  <a:srgbClr val="ff6699"/>
                </a:solidFill>
                <a:latin typeface="Arial"/>
              </a:rPr>
              <a:t>،</a:t>
            </a:r>
            <a:r>
              <a:rPr b="0" lang="ar-SA" sz="4400" spc="-1" strike="noStrike">
                <a:solidFill>
                  <a:srgbClr val="ff6699"/>
                </a:solidFill>
                <a:latin typeface="Arial"/>
              </a:rPr>
              <a:t> هم يبهجونك ويساندوك، هم جاهزون لسماعك في أي وقت تحتاجهم هم بجانبك فاتحين قلوبهم لك</a:t>
            </a:r>
            <a:r>
              <a:rPr b="0" lang="ar-EG" sz="4400" spc="-1" strike="noStrike">
                <a:solidFill>
                  <a:srgbClr val="ff6699"/>
                </a:solidFill>
                <a:latin typeface="Arial"/>
              </a:rPr>
              <a:t>.</a:t>
            </a:r>
            <a:br>
              <a:rPr sz="4400"/>
            </a:b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لذا أرهم مدى حبك لهم أرسل هذه الرسالة للذين ظننت أنهم أصدقاؤك الحقيقيون وغيرها من الرسائل التي تحمل معنى الصداق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5267160" cy="597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(( الشيء الجيد في الصداقة هو معرفة من الذي يمكن أن تستودعه سرك ويقوم بنصحك ))</a:t>
            </a:r>
            <a:br>
              <a:rPr sz="4800"/>
            </a:br>
            <a:r>
              <a:rPr b="0" lang="ar-EG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قرأ هذه الكلمات التالية وتأملها فربما تكون مفيدة لك في حيات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651640" y="404640"/>
            <a:ext cx="31543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1520" y="339840"/>
            <a:ext cx="8286840" cy="6178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أعط الناس أكثر مما يتوقعون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أحب بعمق وبصدق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عندما تقول أحبك، فلا بد أن تعنيها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لا تعبث أو تلهو أبدا بأحلام الآخرين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عندما تقول أنا آسف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أنظر لعيني الشخص الذي تكلمه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لا تعاقب أو تصدر حكما على الآخرين وفقا لما تسمعه عنهم فق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2448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624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كلم ببطء لكن فكر بسرعة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ذا سألك أحدهم سؤالا لا ترغب في اجابته ابتسم واسأله: لماذا ترغب في معرفه الإجابة؟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ذكر دائما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طريق الى النجاح الكبير يتضمنه مخاطر كبيرة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“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عندما تخسر لا بد أن تستفيد من خسارتك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ff3399"/>
                </a:solidFill>
                <a:latin typeface="Arial"/>
              </a:rPr>
              <a:t>احترم ثلاث أشياء احترم نفسك، احترم الآخرين، احترم تصرفا</a:t>
            </a:r>
            <a:r>
              <a:rPr b="0" lang="ar-EG" sz="4000" spc="-1" strike="noStrike">
                <a:solidFill>
                  <a:srgbClr val="ff3399"/>
                </a:solidFill>
                <a:latin typeface="Arial"/>
              </a:rPr>
              <a:t>ت</a:t>
            </a:r>
            <a:r>
              <a:rPr b="0" lang="ar-SA" sz="4000" spc="-1" strike="noStrike">
                <a:solidFill>
                  <a:srgbClr val="ff3399"/>
                </a:solidFill>
                <a:latin typeface="Arial"/>
              </a:rPr>
              <a:t>ك وكن مسئولا عنها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8000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1520" y="374760"/>
            <a:ext cx="8218440" cy="6107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لا تترك أي سوء تفاهم ولو كان صغيرا يدمر الصداقة العظيمة.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ندما تدرك أنك اخطأت قم بتصحيح ذلك مباشرة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بتسم عندما ترد على الهاتف، المتصل سوف يشعر بذلك في صوتك اقرأ ما بين الأسطر.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ذكر أنه في بعض الأحيان، لا تنال ما تريد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ff3399"/>
                </a:solidFill>
                <a:latin typeface="Arial"/>
              </a:rPr>
              <a:t>ربما تكون محظوظا في ذلك اذا وصلت الى نهاية الرسالة، فأنت انسان مذهل، وأتوقع منك ان تعمل بما فيها وترسلها لمن تحب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308720" y="333360"/>
            <a:ext cx="1366920" cy="1106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9522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3:38:33Z</dcterms:created>
  <dc:creator>Eman</dc:creator>
  <dc:description/>
  <dc:language>en-US</dc:language>
  <cp:lastModifiedBy>Administrator</cp:lastModifiedBy>
  <dcterms:modified xsi:type="dcterms:W3CDTF">2007-01-29T09:38:05Z</dcterms:modified>
  <cp:revision>4</cp:revision>
  <dc:subject/>
  <dc:title>قصة المسامير:  قصة رائعة ارسلها لمن تحب</dc:title>
</cp:coreProperties>
</file>